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E6D6-401E-431E-89AC-8C6B819DB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84B5-6CDC-442A-9F59-387AF4888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4064-C128-4F5D-ABF4-EA94AD84D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0C32-0AED-4A49-8B0D-B23569C3C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A182B-C03A-4B34-8140-384F65AE6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CA7BF-A1D4-4EF4-9025-DA217C063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990B3-3A95-4D39-8974-E623AB30A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27C80-6ED4-416A-929C-38D7D9CFA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E3B1D-DCE2-4234-BFDF-868F28CE5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21979-802B-4329-B9BE-A04E5950B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75496-D1F8-4F84-A114-C5EFC9E56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BDC7-F317-40A0-8E66-30E5944CC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C9D4F-509B-4066-B0B7-EB241006D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877DD-4398-405E-9FE9-A16C845B7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387A6-85D6-40A8-A562-4FEBC1C13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05AE5-7B07-44D2-AD64-DF442F1E9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30751-CDBD-48A9-A233-1DCE02AF5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57217-278F-48C1-89A6-63733C3FB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EB580-2150-498D-854A-69D4A316B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81885-AF69-4201-94C0-727A48FC9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F4C7D-59ED-4429-9B6D-E821E1C9E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641464-958B-49F1-B9FD-098E90DF2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6A2A-AAC7-4E14-AAF1-E58F9E1CE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B20ED-4F1F-4B2F-BC0A-B171EBFB9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484EEE-AF30-43E0-A596-725FB65B8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9CD80-E69F-4A18-9219-CC028C443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D6EF9-8AB9-4874-B397-C3E0BD012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131155-0A84-4015-8C4A-A4AEF242A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B64D4-F242-48C3-851F-735920136B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30432-47F2-4733-AB0D-7D7FB0E5B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C4D15-56BC-4C99-B303-E8619D926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0DB78-FA81-432E-9068-3F64B6DC3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33416-2DB8-4E22-AF8D-10916B5D3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446C-4C56-4850-9FBD-4FEF784D6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B6323-A970-49C2-82CB-6D5153623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9AEAE-4EC1-4E0B-83C9-485BF2A21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6B8F6-7E1B-42BB-86B4-C7FA95B5E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FC3BD-2289-43F6-A514-D3E5AD40E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EC884-54A9-4AA7-B5D2-F91BE0337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050A46-7E9F-4563-8F83-1AE25C5CA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C78DB-5C16-4466-855F-E18083224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056C55-4636-4ECB-8609-7A4A79459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8B6F3-B766-4CB0-B28D-6A7772020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9C7AA7-3802-4B00-94F0-4F80CD24F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C3D9-2526-4DD2-B9B9-09A228ABC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D9B61A-30DA-4844-9202-476B0818F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4131F7-D025-418E-BF3C-1D7493D30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45EEA3-A8E0-4AA8-B52D-3C5D89EFB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1C7A80-8899-4D9C-8271-1154CE20D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30D640-FC8E-4CA1-B4D3-1EE2E4012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40E02F-CF0A-466E-AC4A-AF6DFB493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258025-7985-4690-A8AD-4A1A0BF84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91DF6E-FCDA-45E4-8A65-78F96DF72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E9B039-A1EF-4F8B-8B41-5AA9C5A1D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498800-99AC-42B5-9D1C-2B26AB012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D09C-7E98-4E73-A231-2BD7E016E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AF41B5-BE7E-460D-8128-D19270907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166F-4E21-4CDB-9480-6236D14AE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6D52-E98A-4A8E-9FF7-B8ED02B4D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066A-E335-4D3D-8418-299AAE691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BC39E-857F-49C4-A55A-3D6E5C9D13AB}" type="slidenum">
              <a:rPr b="1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5" name="Straight Connector 8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D02A9-296D-4695-9319-7C7DB0A8C998}" type="slidenum">
              <a:rPr b="1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53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89" name="Straight Connector 8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f3f2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3f2d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3f2d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19347-A01F-4BF6-86FD-4134449FFDE2}" type="slidenum">
              <a:rPr b="1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3" name="Straight Connector 8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CA053-6968-43ED-A507-3F4EB9032DBC}" type="slidenum">
              <a:rPr b="1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93a2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d25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2533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93a2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93a29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29293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34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D8B48-3ECE-401D-9882-A3EB2BF1DB7F}" type="slidenum">
              <a:rPr b="1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848720" cy="192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400" spc="-1" strike="noStrike">
                <a:solidFill>
                  <a:srgbClr val="d2533c"/>
                </a:solidFill>
                <a:latin typeface="Arial"/>
              </a:rPr>
              <a:t>USER EXPERIENCE QUESTIONNAIRE</a:t>
            </a:r>
            <a:endParaRPr b="0" lang="en-US" sz="5400" spc="-1" strike="noStrike">
              <a:solidFill>
                <a:srgbClr val="d2533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6858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7576e"/>
                </a:solidFill>
                <a:latin typeface="Arial"/>
              </a:rPr>
              <a:t>Items and Dimensions of the German Version</a:t>
            </a: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1" name=""/>
          <p:cNvGraphicFramePr/>
          <p:nvPr/>
        </p:nvGraphicFramePr>
        <p:xfrm>
          <a:off x="1658880" y="549360"/>
          <a:ext cx="5649840" cy="5803920"/>
        </p:xfrm>
        <a:graphic>
          <a:graphicData uri="http://schemas.openxmlformats.org/drawingml/2006/table">
            <a:tbl>
              <a:tblPr/>
              <a:tblGrid>
                <a:gridCol w="1562040"/>
                <a:gridCol w="279360"/>
                <a:gridCol w="279720"/>
                <a:gridCol w="279360"/>
                <a:gridCol w="279360"/>
                <a:gridCol w="279360"/>
                <a:gridCol w="272880"/>
                <a:gridCol w="292320"/>
                <a:gridCol w="1819080"/>
                <a:gridCol w="306360"/>
              </a:tblGrid>
              <a:tr h="20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700" spc="-1" strike="noStrike">
                          <a:solidFill>
                            <a:srgbClr val="292934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7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7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7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7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7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7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7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700" spc="-1" strike="noStrike">
                          <a:solidFill>
                            <a:srgbClr val="292934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700" spc="-1" strike="noStrike">
                          <a:solidFill>
                            <a:srgbClr val="292934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7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Arial"/>
                          <a:ea typeface="Times New Roman"/>
                        </a:rPr>
                        <a:t>unerfreulich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Arial"/>
                          <a:ea typeface="Times New Roman"/>
                        </a:rPr>
                        <a:t>erfreulich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0e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7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7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Arial"/>
                          <a:ea typeface="Times New Roman"/>
                        </a:rPr>
                        <a:t>unverständlich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Arial"/>
                          <a:ea typeface="Times New Roman"/>
                        </a:rPr>
                        <a:t>verständlich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7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Arial"/>
                          <a:ea typeface="Times New Roman"/>
                        </a:rPr>
                        <a:t>kreativ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Arial"/>
                          <a:ea typeface="Times New Roman"/>
                        </a:rPr>
                        <a:t>phantasielos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7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7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Arial"/>
                          <a:ea typeface="Times New Roman"/>
                        </a:rPr>
                        <a:t>leicht zu lernen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Arial"/>
                          <a:ea typeface="Times New Roman"/>
                        </a:rPr>
                        <a:t>schwer zu lernen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7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7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Arial"/>
                          <a:ea typeface="Times New Roman"/>
                        </a:rPr>
                        <a:t>wertvoll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Arial"/>
                          <a:ea typeface="Times New Roman"/>
                        </a:rPr>
                        <a:t>minderwertig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7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7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Arial"/>
                          <a:ea typeface="Times New Roman"/>
                        </a:rPr>
                        <a:t>langweilig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Arial"/>
                          <a:ea typeface="Times New Roman"/>
                        </a:rPr>
                        <a:t>spannend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7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7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Arial"/>
                          <a:ea typeface="Times New Roman"/>
                        </a:rPr>
                        <a:t>uninteressant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Arial"/>
                          <a:ea typeface="Times New Roman"/>
                        </a:rPr>
                        <a:t>interessant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7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7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Arial"/>
                          <a:ea typeface="Times New Roman"/>
                        </a:rPr>
                        <a:t>unberechenbar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Arial"/>
                          <a:ea typeface="Times New Roman"/>
                        </a:rPr>
                        <a:t>voraussagbar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7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7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Arial"/>
                          <a:ea typeface="Times New Roman"/>
                        </a:rPr>
                        <a:t>schnell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Arial"/>
                          <a:ea typeface="Times New Roman"/>
                        </a:rPr>
                        <a:t>langsam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7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7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Arial"/>
                          <a:ea typeface="Times New Roman"/>
                        </a:rPr>
                        <a:t>originell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Arial"/>
                          <a:ea typeface="Times New Roman"/>
                        </a:rPr>
                        <a:t>konventionell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7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7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Arial"/>
                          <a:ea typeface="Times New Roman"/>
                        </a:rPr>
                        <a:t>behindernd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Arial"/>
                          <a:ea typeface="Times New Roman"/>
                        </a:rPr>
                        <a:t>unterstützend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7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7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Arial"/>
                          <a:ea typeface="Times New Roman"/>
                        </a:rPr>
                        <a:t>gut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Arial"/>
                          <a:ea typeface="Times New Roman"/>
                        </a:rPr>
                        <a:t>schlecht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7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7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Arial"/>
                          <a:ea typeface="Times New Roman"/>
                        </a:rPr>
                        <a:t>kompliziert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Arial"/>
                          <a:ea typeface="Times New Roman"/>
                        </a:rPr>
                        <a:t>einfach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7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0" lang="en-US" sz="7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Arial"/>
                          <a:ea typeface="Times New Roman"/>
                        </a:rPr>
                        <a:t>abstoßend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Arial"/>
                          <a:ea typeface="Times New Roman"/>
                        </a:rPr>
                        <a:t>anziehend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7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7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Arial"/>
                          <a:ea typeface="Times New Roman"/>
                        </a:rPr>
                        <a:t>herkömmlich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Arial"/>
                          <a:ea typeface="Times New Roman"/>
                        </a:rPr>
                        <a:t>neuartig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7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7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Arial"/>
                          <a:ea typeface="Times New Roman"/>
                        </a:rPr>
                        <a:t>unangenehm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Arial"/>
                          <a:ea typeface="Times New Roman"/>
                        </a:rPr>
                        <a:t>angenehm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7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7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Arial"/>
                          <a:ea typeface="Times New Roman"/>
                        </a:rPr>
                        <a:t>sicher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Arial"/>
                          <a:ea typeface="Times New Roman"/>
                        </a:rPr>
                        <a:t>unsicher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7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17</a:t>
                      </a:r>
                      <a:endParaRPr b="0" lang="en-US" sz="7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Arial"/>
                          <a:ea typeface="Times New Roman"/>
                        </a:rPr>
                        <a:t>aktivierend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Arial"/>
                          <a:ea typeface="Times New Roman"/>
                        </a:rPr>
                        <a:t>einschläfernd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7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18</a:t>
                      </a:r>
                      <a:endParaRPr b="0" lang="en-US" sz="7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Arial"/>
                          <a:ea typeface="Times New Roman"/>
                        </a:rPr>
                        <a:t>erwartungskonform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Arial"/>
                          <a:ea typeface="Times New Roman"/>
                        </a:rPr>
                        <a:t>nicht erwartungskonform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7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19</a:t>
                      </a:r>
                      <a:endParaRPr b="0" lang="en-US" sz="7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Arial"/>
                          <a:ea typeface="Times New Roman"/>
                        </a:rPr>
                        <a:t>ineffizient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Arial"/>
                          <a:ea typeface="Times New Roman"/>
                        </a:rPr>
                        <a:t>effizient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7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endParaRPr b="0" lang="en-US" sz="7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übersichtlich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Arial"/>
                          <a:ea typeface="Times New Roman"/>
                        </a:rPr>
                        <a:t>verwirrend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7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endParaRPr b="0" lang="en-US" sz="7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Arial"/>
                          <a:ea typeface="Times New Roman"/>
                        </a:rPr>
                        <a:t>unpragmatisch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Arial"/>
                          <a:ea typeface="Times New Roman"/>
                        </a:rPr>
                        <a:t>pragmatisch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7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22</a:t>
                      </a:r>
                      <a:endParaRPr b="0" lang="en-US" sz="7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Arial"/>
                          <a:ea typeface="Times New Roman"/>
                        </a:rPr>
                        <a:t>aufgeräumt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Arial"/>
                          <a:ea typeface="Times New Roman"/>
                        </a:rPr>
                        <a:t>überladen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7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23</a:t>
                      </a:r>
                      <a:endParaRPr b="0" lang="en-US" sz="7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Arial"/>
                          <a:ea typeface="Times New Roman"/>
                        </a:rPr>
                        <a:t>attraktiv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Arial"/>
                          <a:ea typeface="Times New Roman"/>
                        </a:rPr>
                        <a:t>unattraktiv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7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24</a:t>
                      </a:r>
                      <a:endParaRPr b="0" lang="en-US" sz="7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Arial"/>
                          <a:ea typeface="Times New Roman"/>
                        </a:rPr>
                        <a:t>sympathisch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Arial"/>
                          <a:ea typeface="Times New Roman"/>
                        </a:rPr>
                        <a:t>unsympathisch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7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25</a:t>
                      </a:r>
                      <a:endParaRPr b="0" lang="en-US" sz="7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Arial"/>
                          <a:ea typeface="Times New Roman"/>
                        </a:rPr>
                        <a:t>konservativ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292934"/>
                          </a:solidFill>
                          <a:latin typeface="Wingdings 2"/>
                          <a:ea typeface="Wingdings 2"/>
                        </a:rPr>
                        <a:t>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8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innovativ</a:t>
                      </a:r>
                      <a:endParaRPr b="0" lang="en-US" sz="8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700" spc="-1" strike="noStrike">
                          <a:solidFill>
                            <a:srgbClr val="808080"/>
                          </a:solidFill>
                          <a:latin typeface="Arial"/>
                          <a:ea typeface="Times New Roman"/>
                        </a:rPr>
                        <a:t>26</a:t>
                      </a:r>
                      <a:endParaRPr b="0" lang="en-US" sz="700" spc="-1" strike="noStrike">
                        <a:solidFill>
                          <a:srgbClr val="292934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3"/>
          <p:cNvSpPr/>
          <p:nvPr/>
        </p:nvSpPr>
        <p:spPr>
          <a:xfrm>
            <a:off x="250920" y="549360"/>
            <a:ext cx="3600360" cy="57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292934"/>
                </a:solidFill>
                <a:uFillTx/>
                <a:latin typeface="Arial"/>
              </a:rPr>
              <a:t>Attraktivität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 lvl="1" marL="2728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92934"/>
                </a:solidFill>
                <a:latin typeface="Arial"/>
              </a:rPr>
              <a:t>unerfreulich / erfreulich </a:t>
            </a: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  <a:p>
            <a:pPr lvl="1" marL="2728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92934"/>
                </a:solidFill>
                <a:latin typeface="Arial"/>
              </a:rPr>
              <a:t>gut / schlecht </a:t>
            </a: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  <a:p>
            <a:pPr lvl="1" marL="2728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92934"/>
                </a:solidFill>
                <a:latin typeface="Arial"/>
              </a:rPr>
              <a:t>abstoßend / anziehend </a:t>
            </a: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  <a:p>
            <a:pPr lvl="1" marL="2728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92934"/>
                </a:solidFill>
                <a:latin typeface="Arial"/>
              </a:rPr>
              <a:t>unangenehm / angenehm</a:t>
            </a: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  <a:p>
            <a:pPr lvl="1" marL="2728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92934"/>
                </a:solidFill>
                <a:latin typeface="Arial"/>
              </a:rPr>
              <a:t>attraktiv / unattraktiv</a:t>
            </a: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  <a:p>
            <a:pPr lvl="1" marL="2728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92934"/>
                </a:solidFill>
                <a:latin typeface="Arial"/>
              </a:rPr>
              <a:t>sympathisch / unsympathisch</a:t>
            </a: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292934"/>
                </a:solidFill>
                <a:uFillTx/>
                <a:latin typeface="Arial"/>
              </a:rPr>
              <a:t>Designqualität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292934"/>
                </a:solidFill>
                <a:uFillTx/>
                <a:latin typeface="Arial"/>
              </a:rPr>
              <a:t>Stimulation</a:t>
            </a: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  <a:p>
            <a:pPr lvl="1" marL="2728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92934"/>
                </a:solidFill>
                <a:latin typeface="Arial"/>
              </a:rPr>
              <a:t>wertvoll / minderwertig</a:t>
            </a: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  <a:p>
            <a:pPr lvl="1" marL="2728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92934"/>
                </a:solidFill>
                <a:latin typeface="Arial"/>
              </a:rPr>
              <a:t>langweilig / spannend</a:t>
            </a: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  <a:p>
            <a:pPr lvl="1" marL="2728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92934"/>
                </a:solidFill>
                <a:latin typeface="Arial"/>
              </a:rPr>
              <a:t>uninteressant / interessant</a:t>
            </a: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  <a:p>
            <a:pPr lvl="1" marL="2728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92934"/>
                </a:solidFill>
                <a:latin typeface="Arial"/>
              </a:rPr>
              <a:t>aktivierend / einschläfernd</a:t>
            </a: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292934"/>
                </a:solidFill>
                <a:uFillTx/>
                <a:latin typeface="Arial"/>
              </a:rPr>
              <a:t>Novelty</a:t>
            </a: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  <a:p>
            <a:pPr lvl="1" marL="2728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34"/>
                </a:solidFill>
                <a:latin typeface="Arial"/>
              </a:rPr>
              <a:t>kreativ / phantasielos</a:t>
            </a: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  <a:p>
            <a:pPr lvl="1" marL="2728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34"/>
                </a:solidFill>
                <a:latin typeface="Arial"/>
              </a:rPr>
              <a:t>originell / konventionell</a:t>
            </a: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  <a:p>
            <a:pPr lvl="1" marL="2728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34"/>
                </a:solidFill>
                <a:latin typeface="Arial"/>
              </a:rPr>
              <a:t>herkömmlich / neuartig</a:t>
            </a: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  <a:p>
            <a:pPr lvl="1" marL="2728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34"/>
                </a:solidFill>
                <a:latin typeface="Arial"/>
              </a:rPr>
              <a:t>konservativ / innovativ</a:t>
            </a: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</p:txBody>
      </p:sp>
      <p:sp>
        <p:nvSpPr>
          <p:cNvPr id="223" name="Rectangle 5"/>
          <p:cNvSpPr/>
          <p:nvPr/>
        </p:nvSpPr>
        <p:spPr>
          <a:xfrm>
            <a:off x="4572000" y="549360"/>
            <a:ext cx="3983040" cy="57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 u="sng">
                <a:solidFill>
                  <a:srgbClr val="292934"/>
                </a:solidFill>
                <a:uFillTx/>
                <a:latin typeface="Arial"/>
              </a:rPr>
              <a:t>Benutzungsqualität</a:t>
            </a:r>
            <a:endParaRPr b="0" lang="en-US" sz="20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292934"/>
                </a:solidFill>
                <a:uFillTx/>
                <a:latin typeface="Arial"/>
              </a:rPr>
              <a:t>Effizienz</a:t>
            </a: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92934"/>
                </a:solidFill>
                <a:latin typeface="Arial"/>
              </a:rPr>
              <a:t>schnell / langsam</a:t>
            </a: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92934"/>
                </a:solidFill>
                <a:latin typeface="Arial"/>
              </a:rPr>
              <a:t>ineffizient / effizient</a:t>
            </a: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92934"/>
                </a:solidFill>
                <a:latin typeface="Arial"/>
              </a:rPr>
              <a:t>unpragmatisch / pragmatisch</a:t>
            </a: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92934"/>
                </a:solidFill>
                <a:latin typeface="Arial"/>
              </a:rPr>
              <a:t>aufgeräumt / überladen</a:t>
            </a: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292934"/>
                </a:solidFill>
                <a:uFillTx/>
                <a:latin typeface="Arial"/>
              </a:rPr>
              <a:t>Durchschaubarkeit</a:t>
            </a: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92934"/>
                </a:solidFill>
                <a:latin typeface="Arial"/>
              </a:rPr>
              <a:t>unverständlich / verständlich</a:t>
            </a: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92934"/>
                </a:solidFill>
                <a:latin typeface="Arial"/>
              </a:rPr>
              <a:t>leicht zu lernen / schwer zu lernen</a:t>
            </a: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92934"/>
                </a:solidFill>
                <a:latin typeface="Arial"/>
              </a:rPr>
              <a:t>kompliziert / einfach</a:t>
            </a: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92934"/>
                </a:solidFill>
                <a:latin typeface="Arial"/>
              </a:rPr>
              <a:t>übersichtlich / verwirrend</a:t>
            </a: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292934"/>
                </a:solidFill>
                <a:uFillTx/>
                <a:latin typeface="Arial"/>
              </a:rPr>
              <a:t>Verlässlichkeit</a:t>
            </a: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92934"/>
                </a:solidFill>
                <a:latin typeface="Arial"/>
              </a:rPr>
              <a:t>unberechenbar / voraussagbar</a:t>
            </a: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92934"/>
                </a:solidFill>
                <a:latin typeface="Arial"/>
              </a:rPr>
              <a:t>behindernd / unterstützend</a:t>
            </a: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92934"/>
                </a:solidFill>
                <a:latin typeface="Arial"/>
              </a:rPr>
              <a:t>sicher / unsicher</a:t>
            </a: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292934"/>
                </a:solidFill>
                <a:latin typeface="Arial"/>
              </a:rPr>
              <a:t>erwartungskonform / nicht erwartungskonform</a:t>
            </a: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  <a:p>
            <a:pPr lvl="2" marL="457200"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2934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74"/>
              </a:spcBef>
              <a:buClr>
                <a:srgbClr val="f0ab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34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374"/>
              </a:spcBef>
              <a:buClr>
                <a:srgbClr val="f0ab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293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1T08:51:54Z</dcterms:created>
  <dc:creator>D019967</dc:creator>
  <dc:description/>
  <dc:language>en-US</dc:language>
  <cp:lastModifiedBy>D019967</cp:lastModifiedBy>
  <dcterms:modified xsi:type="dcterms:W3CDTF">2012-05-21T09:13:48Z</dcterms:modified>
  <cp:revision>2</cp:revision>
  <dc:subject/>
  <dc:title>User Experience Questionnaire</dc:title>
</cp:coreProperties>
</file>